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4.png" ContentType="image/png"/>
  <Override PartName="/ppt/media/image23.jpeg" ContentType="image/jpeg"/>
  <Override PartName="/ppt/media/image12.png" ContentType="image/png"/>
  <Override PartName="/ppt/media/image22.wmf" ContentType="image/x-wmf"/>
  <Override PartName="/ppt/media/image19.png" ContentType="image/png"/>
  <Override PartName="/ppt/media/image20.png" ContentType="image/png"/>
  <Override PartName="/ppt/media/image36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1.png" ContentType="image/png"/>
  <Override PartName="/ppt/media/image29.wmf" ContentType="image/x-wmf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21.wmf" ContentType="image/x-wmf"/>
  <Override PartName="/ppt/media/image6.jpeg" ContentType="image/jpeg"/>
  <Override PartName="/ppt/media/image37.jpeg" ContentType="image/jpeg"/>
  <Override PartName="/ppt/media/image13.png" ContentType="image/png"/>
  <Override PartName="/ppt/media/image34.png" ContentType="image/png"/>
  <Override PartName="/ppt/media/image4.png" ContentType="image/png"/>
  <Override PartName="/ppt/media/image3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668-061E-443E-A8E6-130630DA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351-06A3-4D43-B4DB-8C28ECFD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1DE-0415-475E-A607-D8E50D25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512-07DD-47CA-BE53-0FA1A5AA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C01-2155-4805-933A-F9D39D13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5EC-9EE7-407B-B491-506BED21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18C-6F4B-483C-842C-EB5EC384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AF5-AB58-4A43-841D-C1DFC796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690-3314-4CDB-AC06-5D6E3B71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16C-D68D-4EFE-B88E-2E705606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476-17FA-481A-A561-AEC3008B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AEB-FB59-4224-9A0E-F2293745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3A04-1195-4992-ACE6-6A5D97FCB1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faaids.bashmed.ru/" TargetMode="Externa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nzik.com/nauka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ОФИЛАКТИ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ИЧ-инфек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формационная лекция по ОБ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ры – составители: БГПУ им.М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мул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федра ОЗ и БЖ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фессор, д.мед.н. З.А.ХУСНУТДИНОВ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цент, к.мед.н. В.В.ШУРЫГ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M900185588[1]"/>
          <p:cNvPicPr/>
          <p:nvPr/>
        </p:nvPicPr>
        <p:blipFill>
          <a:blip r:embed="rId3"/>
          <a:stretch/>
        </p:blipFill>
        <p:spPr>
          <a:xfrm>
            <a:off x="6781680" y="2819520"/>
            <a:ext cx="2016360" cy="11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91320" y="457200"/>
            <a:ext cx="31240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imes New Roman"/>
              </a:rPr>
              <a:t>При рассмотрении под электронным микроскопом вирус напоминает экзотический цвет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imes New Roman"/>
              </a:rPr>
              <a:t> Его внешняя оболочка имеет шарообразные выступы, своего рода лепестки, называемые рецепторами, посредством которых он прикрепляется к поражаемым в организме человека клеткам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Protivogerpesnoe_lekarstvo_zamedlyaet_razvitie_VICh-infek"/>
          <p:cNvPicPr/>
          <p:nvPr/>
        </p:nvPicPr>
        <p:blipFill>
          <a:blip r:embed="rId2"/>
          <a:stretch/>
        </p:blipFill>
        <p:spPr>
          <a:xfrm>
            <a:off x="0" y="152280"/>
            <a:ext cx="55738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0016-017-A-ty-znaesh-vraga-v-litso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419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ликопротеин gр120 обусловливает присоединение ВИЧ к рецепторам СD4 клет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попадании ВИЧ в клетку под действием обратной транскриптазы синтезируется ДНК ВИЧ, встраиваемая в ДНК клетки-хозяина, которая в дальнейшем начинает продуцировать вирусные части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298898_html_3189e63"/>
          <p:cNvPicPr/>
          <p:nvPr/>
        </p:nvPicPr>
        <p:blipFill>
          <a:blip r:embed="rId2"/>
          <a:stretch/>
        </p:blipFill>
        <p:spPr>
          <a:xfrm>
            <a:off x="0" y="0"/>
            <a:ext cx="437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723920" y="45684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инфицированный человек не принимает лечение, то число 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4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еток постепенно снижается, а риск инфекции соответственно возраст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img3"/>
          <p:cNvPicPr/>
          <p:nvPr/>
        </p:nvPicPr>
        <p:blipFill>
          <a:blip r:embed="rId2"/>
          <a:stretch/>
        </p:blipFill>
        <p:spPr>
          <a:xfrm>
            <a:off x="0" y="0"/>
            <a:ext cx="479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61760" y="-360"/>
            <a:ext cx="6019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ct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ипы клеток, поражаемых 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108"/>
          <p:cNvSpPr/>
          <p:nvPr/>
        </p:nvSpPr>
        <p:spPr>
          <a:xfrm>
            <a:off x="0" y="2049480"/>
            <a:ext cx="914400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066680"/>
          <a:ext cx="8763120" cy="5639040"/>
        </p:xfrm>
        <a:graphic>
          <a:graphicData uri="http://schemas.openxmlformats.org/drawingml/2006/table">
            <a:tbl>
              <a:tblPr/>
              <a:tblGrid>
                <a:gridCol w="5705640"/>
                <a:gridCol w="3057480"/>
              </a:tblGrid>
              <a:tr h="71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Тип кле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Ткани и орга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Т-лимфоциты, макрофа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Кров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Клетки Лангерган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Ко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Фолликулярные дендритные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Лимфоуз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Альвеолярные макрофа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Легк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Эпителиальные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Толстая кишка, по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Клетки шейки ма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Шейка ма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Клетки олигодендроглии, астроц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c4c4c"/>
                          </a:solidFill>
                          <a:latin typeface="Times New Roman"/>
                        </a:rPr>
                        <a:t>Моз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8" name="Rectangle 208"/>
          <p:cNvSpPr/>
          <p:nvPr/>
        </p:nvSpPr>
        <p:spPr>
          <a:xfrm>
            <a:off x="1800" y="43279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ПУТИ ПЕРЕДАЧИ ВИЧ-ИНФЕК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2" descr="C:\Users\User\Podcasts\Documents\Габер_презентации, проектир\Габер  Проектир системы наркопрофил\Профилактические программы\Знания сила СПИД победила\Image6_.jpg"/>
          <p:cNvPicPr/>
          <p:nvPr/>
        </p:nvPicPr>
        <p:blipFill>
          <a:blip r:embed="rId2"/>
          <a:stretch/>
        </p:blipFill>
        <p:spPr>
          <a:xfrm>
            <a:off x="938160" y="1981080"/>
            <a:ext cx="726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5ffff"/>
                </a:solidFill>
                <a:latin typeface="Tahoma"/>
              </a:rPr>
              <a:t>ВИЧ-инфекция</a:t>
            </a:r>
            <a:br>
              <a:rPr sz="8000"/>
            </a:br>
            <a:r>
              <a:rPr b="0" lang="ru-RU" sz="8000" spc="-1" strike="noStrike">
                <a:solidFill>
                  <a:srgbClr val="e5ffff"/>
                </a:solidFill>
                <a:latin typeface="Tahoma"/>
              </a:rPr>
              <a:t> в 51% случаев передаётся половым путём!!!</a:t>
            </a:r>
            <a:br>
              <a:rPr sz="8000"/>
            </a:b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т инфицированной матер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ush Script MT"/>
              </a:rPr>
              <a:t>внутриутробное заражение во время беремен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ush Script MT"/>
              </a:rPr>
              <a:t>при род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rush Script MT"/>
              </a:rPr>
              <a:t>через грудное молоко ВИЧ-инфицированной мате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3940200" cy="4267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Как передаётся ВИЧ-инфекция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и внутривенном введении наркотик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ush Script M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rush Script MT"/>
              </a:rPr>
              <a:t>Наркоманы часто пользуются общими шприцами, поэтому риск заражения очень высо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ush Script MT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Brush Script MT"/>
              </a:rPr>
              <a:t>Первая доза может стать последн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4457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547560" y="1052640"/>
            <a:ext cx="81010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«Сегодня  мы рассматриваем проблему, которая носит глобальный характер и является актуальной не только для России, но и для всего мира. Речь  пойдет о мерах борьбы с распространением ВИЧ-инфекции. Заболевание СПИДом - это факт медицинский, а причины болезни, как правило, носят социальный характер, поэтому эффективность борьбы со СПИДом может  обеспечить лишь слаженная  совместная работа различных  органов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.В. Путин - Президент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и переливании крови, пересадке органов и ткан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ush Script MT"/>
              </a:rPr>
              <a:t>От инфицирован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ush Script MT"/>
              </a:rPr>
              <a:t>дон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и использовании нестерильных медицинских инструмент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733920" y="2971800"/>
            <a:ext cx="487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и прокалывании уш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ирсинг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атуиров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2808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Arial"/>
              </a:rPr>
              <a:t>Ситуации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ака без крови (синяки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приц, который ребенок поднял на улиц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убная щетка, которую один ребенок передает другому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ещение бани, душа , купании в бассейн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копожатие, объят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меты домашнего и школьного обих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ение с домашними животн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8088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ИЧ не передаётс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348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rush Script MT"/>
              </a:rPr>
              <a:t>при прикосновении и рукопожатии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rush Script MT"/>
              </a:rPr>
              <a:t>при поцелуе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rush Script MT"/>
              </a:rPr>
              <a:t>при объятиях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rush Script MT"/>
              </a:rPr>
              <a:t>при пользовании общей одеждой или постельным бельем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rush Script MT"/>
              </a:rPr>
              <a:t>при укусах насекомых и 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Untitled-13"/>
          <p:cNvPicPr/>
          <p:nvPr/>
        </p:nvPicPr>
        <p:blipFill>
          <a:blip r:embed="rId2"/>
          <a:srcRect l="0" t="0" r="0" b="3120"/>
          <a:stretch/>
        </p:blipFill>
        <p:spPr>
          <a:xfrm>
            <a:off x="4343400" y="1676520"/>
            <a:ext cx="4572000" cy="40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Течение ВИЧ-инфек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232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I. </a:t>
            </a: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Стадия инкуб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232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72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момента заражения до клинических проявлений острой инфекции и/или выработки антител (в среднем от 3 недель до 3 месяцев)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2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2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инических проявлений болезни нет, антитела к ВИЧ не определяю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2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уже в этот период возможно выявление вируса методом ПЦ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II.  Стадия первичных проявлений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«А» - бессимптом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«Б» - острая ВИЧ-инфекция без вторичных заболев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«В» - острая ВИЧ-инфекция с вторичными заболеваниями (на фоне временного снижения иммунитета развиваются вторичные заболевания – ангина, бактериальная пневмония, кандидоз, герпес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ительность клинических проявлений острой ВИЧ-инфекции обычно составля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- 3 нед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III. Латентная стади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едленное прогрессирование иммунодефицита. Единственным клиническим проявлением является увеличение лимфоузлов, которое может и отсутствовать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ительность латентной стадии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 2 - 3-х до 20 и более лет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реднем 6 - 7 лет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IV.  Стадия вторичных заболева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«А» - для нее характерны бактериальные, грибковые и вирусные поражения слизистых и кожных покровов, воспалительные заболевания верхних дыхательных пу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«Б» - более тяжелые и длительные кожные поражения, саркома Капоши, потеря веса, поражения периферической нервной системы и внутренних орг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«В» - тяжелые, угрожающие жизни вторичные заболе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07600"/>
            <a:ext cx="777528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аркома Капош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Picture 4" descr="1"/>
          <p:cNvPicPr/>
          <p:nvPr/>
        </p:nvPicPr>
        <p:blipFill>
          <a:blip r:embed="rId2"/>
          <a:stretch/>
        </p:blipFill>
        <p:spPr>
          <a:xfrm>
            <a:off x="762120" y="1246320"/>
            <a:ext cx="76197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V.  Терминальная стад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ступает кахексия (истощ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ржится лихорад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ражена интоксик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ной все время проводит в крова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ется деменция (слабоумие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держание лимфоцитов достигает критических велич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езнь прогрессирует, и больной погибает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ЦЕЛЬ ЛЕКЦИ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у обучающих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тностей безопасного и ответственного поведения в ситуациях, связанных с риском инфицирования ВИ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e5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ысить уровень знаний по вопросам ВИЧ/СПИ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ть навыки безопасного и ответственного пов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ния в ситуациях, связанных с риском инфицирования ВИЧ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ировать о сложившейся эпидемиологической ситуации в отношении ВИЧ-инфекции в мире, России и РБ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ть представления о здоровье и здоровом образе жизни как цен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85800" y="380880"/>
            <a:ext cx="7993080" cy="55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По данны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AIDS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за 30  лет  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начала  эпидемии СПИД унес более 25 миллионов жизне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более 60 миллионов человек были инфицированы ВИЧ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16 миллионов детей остались без родител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До сих пор этим вирусом ежедневно заражаются более семи тысяч человек, включая одну тысячу де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Картинки"/>
          <p:cNvPicPr/>
          <p:nvPr/>
        </p:nvPicPr>
        <p:blipFill>
          <a:blip r:embed="rId2"/>
          <a:stretch/>
        </p:blipFill>
        <p:spPr>
          <a:xfrm>
            <a:off x="155520" y="46080"/>
            <a:ext cx="1428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Объединённая программа Организации Объединённых Наций по ВИЧ/СПИД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 или 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ЮНЭЙДС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англ. 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Joint United Nations Programme on HIV/AID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сокращенно 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UNAID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–объеди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й ООН, созданное дл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сторонней, скоординированной борьбы в глобальном масштабе 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пидемие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ИДа и ее последствия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Картинки"/>
          <p:cNvPicPr/>
          <p:nvPr/>
        </p:nvPicPr>
        <p:blipFill>
          <a:blip r:embed="rId2"/>
          <a:stretch/>
        </p:blipFill>
        <p:spPr>
          <a:xfrm>
            <a:off x="152280" y="228600"/>
            <a:ext cx="1428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457200" y="685800"/>
            <a:ext cx="825660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глобальной международной статистике по ВИЧ-инфекции, принятой ВОЗ, ЮНЭЙДС, сопоставительный анализ эпидемии ВИЧ-инфекции ведется по регионам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оссийская Федерация отнесена к региону Восточной Европы и Центральной Азии, который  объединяет 15 бывших стран СН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Этот регион в настоящее рассматривается в качестве единственного в мире, в котором эпидемия продолжает идти на подъ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Картинки"/>
          <p:cNvPicPr/>
          <p:nvPr/>
        </p:nvPicPr>
        <p:blipFill>
          <a:blip r:embed="rId2"/>
          <a:stretch/>
        </p:blipFill>
        <p:spPr>
          <a:xfrm>
            <a:off x="0" y="0"/>
            <a:ext cx="1428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800px-Blank_map_of_Russia-gray"/>
          <p:cNvPicPr/>
          <p:nvPr/>
        </p:nvPicPr>
        <p:blipFill>
          <a:blip r:embed="rId2"/>
          <a:stretch/>
        </p:blipFill>
        <p:spPr>
          <a:xfrm>
            <a:off x="0" y="836640"/>
            <a:ext cx="7097760" cy="4302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539640" y="18900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Количество зарегистрированных случаев ВИЧ-инфек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у граждан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2050920" y="3429000"/>
            <a:ext cx="6264360" cy="3095640"/>
          </a:xfrm>
          <a:prstGeom prst="wedgeRectCallout">
            <a:avLst>
              <a:gd name="adj1" fmla="val -47569"/>
              <a:gd name="adj2" fmla="val -68361"/>
            </a:avLst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Arial"/>
                <a:ea typeface="Arial"/>
              </a:rPr>
              <a:t>На 1 января 2013 года нарастающим итогом зарегистрирован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720 014</a:t>
            </a:r>
            <a:r>
              <a:rPr b="1" lang="ru-RU" sz="2000" spc="-1" strike="noStrike">
                <a:solidFill>
                  <a:srgbClr val="e5ffff"/>
                </a:solidFill>
                <a:latin typeface="Arial"/>
                <a:ea typeface="Arial"/>
              </a:rPr>
              <a:t> ВИЧ-инфицированных граждан страны, в том числе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6 411</a:t>
            </a:r>
            <a:r>
              <a:rPr b="1" lang="ru-RU" sz="2000" spc="-1" strike="noStrike">
                <a:solidFill>
                  <a:srgbClr val="e5ffff"/>
                </a:solidFill>
                <a:latin typeface="Arial"/>
                <a:ea typeface="Arial"/>
              </a:rPr>
              <a:t>   детей в возрасте до 15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Arial"/>
                <a:ea typeface="Arial"/>
              </a:rPr>
              <a:t>В  2012 г.</a:t>
            </a:r>
            <a:r>
              <a:rPr b="1" lang="en-US" sz="2000" spc="-1" strike="noStrike">
                <a:solidFill>
                  <a:srgbClr val="e5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e5ffff"/>
                </a:solidFill>
                <a:latin typeface="Arial"/>
                <a:ea typeface="Arial"/>
              </a:rPr>
              <a:t>зарегистрировано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69 849</a:t>
            </a:r>
            <a:r>
              <a:rPr b="1" lang="ru-RU" sz="2000" spc="-1" strike="noStrike">
                <a:solidFill>
                  <a:srgbClr val="e5ffff"/>
                </a:solidFill>
                <a:latin typeface="Arial"/>
                <a:ea typeface="Arial"/>
              </a:rPr>
              <a:t> новых случаев ВИЧ-инфекции среди жителей субъектов Российской Федерации, что н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2 %</a:t>
            </a:r>
            <a:r>
              <a:rPr b="1" lang="ru-RU" sz="2000" spc="-1" strike="noStrike">
                <a:solidFill>
                  <a:srgbClr val="e5ffff"/>
                </a:solidFill>
                <a:latin typeface="Arial"/>
                <a:ea typeface="Arial"/>
              </a:rPr>
              <a:t> больше по сравнению с 2011 годом (62 384 случая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388360" y="5791320"/>
            <a:ext cx="755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3"/>
          <p:cNvSpPr/>
          <p:nvPr/>
        </p:nvSpPr>
        <p:spPr>
          <a:xfrm>
            <a:off x="1219320" y="914400"/>
            <a:ext cx="6492600" cy="2133720"/>
          </a:xfrm>
          <a:prstGeom prst="downArrowCallout">
            <a:avLst>
              <a:gd name="adj1" fmla="val 71485"/>
              <a:gd name="adj2" fmla="val 71479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  <a:ea typeface="Arial"/>
              </a:rPr>
              <a:t>Показатель заболеваемости в 2012 году составил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  <a:ea typeface="Arial"/>
              </a:rPr>
              <a:t>48,8 на 100 тыс. населения, лидируют обла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  <a:ea typeface="Arial"/>
              </a:rPr>
              <a:t>Кемеровская (217,8),Иркутская (132,3),Самарская (112,8)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  <a:ea typeface="Arial"/>
              </a:rPr>
              <a:t>Новосибирская (101,5), Курганская (95,8%), Пермски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  <a:ea typeface="Arial"/>
              </a:rPr>
              <a:t>Край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  <a:ea typeface="Arial"/>
              </a:rPr>
              <a:t>(91,6), Челябинская (79,2), Оренбургская (78,9)</a:t>
            </a: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30481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 наиболее пораженным субъектам Российской Федерации относятся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ркутская область  - 1478,8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льяновская -  752,2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амарская                 - 1369,9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Челябинская -  762,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вердловская           - 1172,0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верская         - 571,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енинградская         - 1117,1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ермский край – 607,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ренбургская            - 1049,9 области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алининградская - 547,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. Санкт-Петербург   - 1003,8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вановская    - 551,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Ханты-Мансийский А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955,8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юменская     - 791,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емеровская             - 921,5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овосибирская - 545,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осковская     -  503,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447920" y="0"/>
            <a:ext cx="584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лучаи ВИЧ-инфекции зарегистрированы во всех субъектах Р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719280" y="1197000"/>
            <a:ext cx="784836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Эпидемиологическая ситуа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по ВИЧ-инфекции 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Республике Башкортост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(по состоянию на 01.09.201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C:\Users\HP\Downloads\image(2).png"/>
          <p:cNvPicPr/>
          <p:nvPr/>
        </p:nvPicPr>
        <p:blipFill>
          <a:blip r:embed="rId2"/>
          <a:stretch/>
        </p:blipFill>
        <p:spPr>
          <a:xfrm>
            <a:off x="2087640" y="3392640"/>
            <a:ext cx="540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318280"/>
            <a:ext cx="91440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911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оказатель пораженности ВИЧ-инфекцией</a:t>
            </a:r>
            <a:br>
              <a:rPr sz="20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на 100 тысяч населения (на 1 января 2013 г.)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-19044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163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22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23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Object 7"/>
          <p:cNvGraphicFramePr/>
          <p:nvPr/>
        </p:nvGraphicFramePr>
        <p:xfrm>
          <a:off x="-36360" y="-171360"/>
          <a:ext cx="8964360" cy="56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171360"/>
                    <a:ext cx="896436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09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Заболеваемость ВИЧ-инфекцией населения городских округов Республики Башкортостан на 1 января  2013 г. </a:t>
            </a:r>
            <a:br>
              <a:rPr sz="2200"/>
            </a:b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на 100 тысяч населения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06280" y="1828800"/>
          <a:ext cx="8780400" cy="462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6280" y="1828800"/>
                    <a:ext cx="878040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foto"/>
          <p:cNvPicPr/>
          <p:nvPr/>
        </p:nvPicPr>
        <p:blipFill>
          <a:blip r:embed="rId2"/>
          <a:stretch/>
        </p:blipFill>
        <p:spPr>
          <a:xfrm>
            <a:off x="250920" y="620640"/>
            <a:ext cx="5435640" cy="3619440"/>
          </a:xfrm>
          <a:prstGeom prst="rect">
            <a:avLst/>
          </a:prstGeom>
          <a:ln w="9360">
            <a:solidFill>
              <a:srgbClr val="2b5481"/>
            </a:solidFill>
            <a:miter/>
          </a:ln>
        </p:spPr>
      </p:pic>
      <p:sp>
        <p:nvSpPr>
          <p:cNvPr id="140" name="AutoShape 8"/>
          <p:cNvSpPr/>
          <p:nvPr/>
        </p:nvSpPr>
        <p:spPr>
          <a:xfrm>
            <a:off x="3094200" y="836640"/>
            <a:ext cx="6049800" cy="2663640"/>
          </a:xfrm>
          <a:prstGeom prst="roundRect">
            <a:avLst>
              <a:gd name="adj" fmla="val 16667"/>
            </a:avLst>
          </a:prstGeom>
          <a:solidFill>
            <a:srgbClr val="2b5481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ой причиной заражения ВИЧ  в республике   продолжает оставаться внутривенное введение наркотиков нестерильным  инструментарием -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1,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от всех зарегистрированных  случаев зараж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1763640" y="2492280"/>
            <a:ext cx="6553440" cy="2384640"/>
          </a:xfrm>
          <a:prstGeom prst="roundRect">
            <a:avLst>
              <a:gd name="adj" fmla="val 16667"/>
            </a:avLst>
          </a:prstGeom>
          <a:solidFill>
            <a:srgbClr val="2b5481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ение числа новых зарегистрированных случаев ВИЧ-инфекции  отмечалось   в 2012 г.  на               9 территориях ( гг. Стерлитамак, Нефтекамск, Кумертау, Салават. Уфа, а также в Нуримановском, Бирском, Краснокамском, Мелеузовском района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полового пути передачи ВИЧ-инфекции,   составивший 55,5 % среди выявленных в 2012 году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4724280"/>
            <a:ext cx="6769080" cy="1773360"/>
          </a:xfrm>
          <a:prstGeom prst="roundRect">
            <a:avLst>
              <a:gd name="adj" fmla="val 16667"/>
            </a:avLst>
          </a:prstGeom>
          <a:solidFill>
            <a:srgbClr val="2b5481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корение  темпов феминизации  ВИЧ – инфекции. Кумулятивное количество инфицированных ВИЧ женщин  составило 37,2%  от числа подлежащих учет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2012 году  выявлено впервые 887  женщин с ВИЧ, что уже больше по сравнению с 2011 годом (665  чел,)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539640" y="0"/>
            <a:ext cx="828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Особенности развития эпидемии  ВИЧ-инфекции в Республике Башкортостан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388360" y="5791320"/>
            <a:ext cx="755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B2E8-0242-4CC0-97AB-02AFB06C2692}" type="slidenum"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2"/>
          <a:stretch/>
        </p:blipFill>
        <p:spPr>
          <a:xfrm>
            <a:off x="1011240" y="-133200"/>
            <a:ext cx="8163000" cy="1560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3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824220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раткая истори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81 год - сообщение Центра по контролю и профилактике болезней (CDC) США о 5 случаях пневмоцистной пневмонии и 28 случаях саркомы Капоши. Все заболевшие - гомосексуалисты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83 год - открытие вируса, вызывающего СПИД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85 год - изучены основные пути передачи ВИЧ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85 год - регистрация первого случая ВИЧ/СПИДа в СССР у иностранного гражданин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87 год - появление первых препаратов для лечения СПИДа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87 год - регистрация первого случая ВИЧ-инфекции у гражданина СССР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988 год - 1 декабря объявлен ООН Всемирным днем борьбы со СПИД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2" descr=""/>
          <p:cNvPicPr/>
          <p:nvPr/>
        </p:nvPicPr>
        <p:blipFill>
          <a:blip r:embed="rId2"/>
          <a:stretch/>
        </p:blipFill>
        <p:spPr>
          <a:xfrm>
            <a:off x="298440" y="6480"/>
            <a:ext cx="8510760" cy="1614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ref-1_951853438-11519"/>
          <p:cNvPicPr/>
          <p:nvPr/>
        </p:nvPicPr>
        <p:blipFill>
          <a:blip r:embed="rId3"/>
          <a:stretch/>
        </p:blipFill>
        <p:spPr>
          <a:xfrm>
            <a:off x="2819520" y="1676520"/>
            <a:ext cx="3878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3" descr=""/>
          <p:cNvPicPr/>
          <p:nvPr/>
        </p:nvPicPr>
        <p:blipFill>
          <a:blip r:embed="rId2"/>
          <a:stretch/>
        </p:blipFill>
        <p:spPr>
          <a:xfrm>
            <a:off x="1182600" y="219240"/>
            <a:ext cx="7716960" cy="1207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178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В ТОМ ЧИ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2174760"/>
            <a:ext cx="3600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городского населения - 54,6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ельского - 30,1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лиц в учреждениях системы ГУФСИН России по РБ - 3,3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лиц без определенного места жительства – 2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Содержимое 8"/>
          <p:cNvGraphicFramePr/>
          <p:nvPr/>
        </p:nvGraphicFramePr>
        <p:xfrm>
          <a:off x="3716280" y="1557360"/>
          <a:ext cx="4897440" cy="48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4" name="Содержимое 8" descr=""/>
                  <p:cNvPicPr/>
                  <p:nvPr/>
                </p:nvPicPr>
                <p:blipFill>
                  <a:blip r:embed="rId4">
                    <a:alphaModFix amt="0"/>
                  </a:blip>
                  <a:stretch/>
                </p:blipFill>
                <p:spPr>
                  <a:xfrm>
                    <a:off x="3716280" y="1557360"/>
                    <a:ext cx="48974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95280" y="333360"/>
            <a:ext cx="8569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4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РБ тенденции развития эпидемии ВИЧ-инфекции совпадают с общероссийскими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эпидемия ВИЧ-инфекции затрагивает преимущественно трудоспособное население репродуктивного возраста от 21 года до 40 ле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растет общее количество людей, живущих с ВИЧ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продолжается феминизация эпидем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увеличивается число детей, рожденных ВИЧ-инфицированными    матеря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растет число лиц, нуждающихся в лечении, в том числе по поводу  инфекций, сочетанных с ВИЧ (туберкулез, гепатиты В и С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204480">
              <a:lnSpc>
                <a:spcPct val="7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увеличивается число больных СПИДом и смертей  от СПИД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асштабы ВИЧ-инфицирова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1988г Генеральная Ассамблея ООН объявила, что распространение СПИДа приняло масштабы глобальной пандем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тобы привлечь внимание к этой проблеме людей всего мира, резолюцией ООН день 1 декабря был официально объявлен Всемирным днем борьбы со СПИД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этот день мировая общественность выражает солидарность людям затронутым эпидемией ВИЧ-инфекции, и направляет усилия на борьбу со СПИДом во всем ми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2" descr="C:\Documents and Settings\Администратор\Мои документы\Мои рисунки\рисуночки\картинки\i.jpg"/>
          <p:cNvPicPr/>
          <p:nvPr/>
        </p:nvPicPr>
        <p:blipFill>
          <a:blip r:embed="rId2"/>
          <a:stretch/>
        </p:blipFill>
        <p:spPr>
          <a:xfrm>
            <a:off x="136440" y="1523880"/>
            <a:ext cx="270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расная ленточка –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имвол борьбы со СПИДом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124080" y="1904760"/>
            <a:ext cx="556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сная ленточка - официальный международный символ борьбы со СПИД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апреле 1991 год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удожник Франк Мур создал красную ленточку, которая становится символом надежды, объединившим голоса людей в борьбе со СПИД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знак причастности к глобальной проблеме, символ солидарности с теми, кого эпидемия СПИДа коснулась лично: с ВИЧ-инфицированными и больными СПИДом, с их родными и близк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s000322_511677"/>
          <p:cNvPicPr/>
          <p:nvPr/>
        </p:nvPicPr>
        <p:blipFill>
          <a:blip r:embed="rId2"/>
          <a:stretch/>
        </p:blipFill>
        <p:spPr>
          <a:xfrm>
            <a:off x="380880" y="1981080"/>
            <a:ext cx="273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Республиканский центр по профилактике и борьбе со СПИДом и инфекционными заболеваниям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. Уфа,  ул. Цюрупы, 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жим работы: с 8.30 до 17.4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мер телефона довер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347) 250-04-7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ufaaids.bashmed.ru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ПРОФИЛАКТИКА ВИЧ-инфекции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2743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ДИНСТВЕННЫЙ СПОСОБ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 ЗАБОЛЕТЬ ВИЧ – инфекци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ЭТО ПРЕДОХРАНИТЬ СЕБЯ ОТ  ВОЗМОЖНОСТИ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РАЖЕН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Ч инфекция – болезнь повед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rush Script MT"/>
              </a:rPr>
              <a:t>Избежать зара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rush Script MT"/>
              </a:rPr>
              <a:t>возможно, соблюд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rush Script MT"/>
              </a:rPr>
              <a:t>определенные прави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rush Script MT"/>
              </a:rPr>
              <a:t>безопасного по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Untitled-11"/>
          <p:cNvPicPr/>
          <p:nvPr/>
        </p:nvPicPr>
        <p:blipFill>
          <a:blip r:embed="rId2"/>
          <a:srcRect l="0" t="10727" r="0" b="0"/>
          <a:stretch/>
        </p:blipFill>
        <p:spPr>
          <a:xfrm>
            <a:off x="900000" y="1844640"/>
            <a:ext cx="346248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Правила безопасного поведения в отношении ВИЧ-инфекци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 Я ежедневно занимаюсь физкультурой или спорт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 Я умею справляться со стресс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 Я не кур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 Я знаю, как заражаются ВИЧ, и как я могу защитить себ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 Я соблюдаю режим д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 Я никогда не употребляю наркот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 Я не пользуюсь нестерильными инструментами для прокалывания ушей, тату, пирсинга, брит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 Я не употребляю алког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4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4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4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39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4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4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4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4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  Я стремлюсь к тому, чтобы моё питание было сбалансированн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Я всегда соблюдаю правила личной гиги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Я исключаю  случайные половые контак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Я откажусь от медицинских услуг, если не уверен(а), что инструменты стериль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В случае половых контактов я использую презервати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 Для маникюра или бритья использую только мои личные инструм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. Если у меня был/будет риск заражения ВИЧ, я сдам кровь на анали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. У меня будет/есть постоянный половой партнё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Ч-инфекция в Росс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шей стране первый случай этого заболевания был, как известно, зарегистрирован в 1987 год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тому времени в других странах эта болезнь уже имела характер масштабной эпидемии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Успешные люди всегда ведут ЗОЖ: регулярно занимаются спортом, следят за своим питанием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338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Многие потеряли здоровье, пытаясь заработать все деньги, которые можно заработать, а потом потеряли все деньги, пытаясь вернуть здоровь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780000" y="1916280"/>
            <a:ext cx="476244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Здоровый образ жизни – это целая система определенных действий, направленных на поддержание отличной физической формы,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отребление здоровых продуктов, правильный режим питания (дробный), правильное употребление жидкости, регулярные физические упражнения, различные оздоровительные процедуры и многое друг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1334235447_1"/>
          <p:cNvPicPr/>
          <p:nvPr/>
        </p:nvPicPr>
        <p:blipFill>
          <a:blip r:embed="rId2"/>
          <a:stretch/>
        </p:blipFill>
        <p:spPr>
          <a:xfrm>
            <a:off x="4427640" y="3571920"/>
            <a:ext cx="4716360" cy="3286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539640" y="3933720"/>
            <a:ext cx="349272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ричем здесь одинаково важно все. Нет ничего второстепенного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4724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с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воих руках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5" descr="article30783"/>
          <p:cNvPicPr/>
          <p:nvPr/>
        </p:nvPicPr>
        <p:blipFill>
          <a:blip r:embed="rId2"/>
          <a:stretch/>
        </p:blipFill>
        <p:spPr>
          <a:xfrm>
            <a:off x="4191120" y="19051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точники информаци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ять специальных уроков для школьников 9-11 классов по профилактике ВИЧ/СПИД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. Пособ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териалы выступлений и презентации к лекциям профессора Хуснутдиновой З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териалы выступлений и презентации к лекциям доцента Шурыгиной В.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Информационные материалы Республиканского центра по профилактике и борьбе со СПИДом и инфекционным заболевани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тупление заместителя главного врача ГБУЗ РЦПБ со СПИДом и ИЗ по МОН Идрисовой Г.Ф. 12 сентября  2013 года на заседании Комитета по профилактике ВИЧ-инфекции Министерства здравоохранения Республики Башкортостан (г. Уф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Рисунки: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linzik.com/nauk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www.strf.ru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руктура вируса иммунодефицита 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04920" y="152280"/>
            <a:ext cx="861048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  - 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вирус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И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иммунодефицит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Ч</a:t>
            </a: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  - 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челове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590920" y="3500280"/>
            <a:ext cx="3738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52280" y="624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ИД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заболе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54" name="AutoShape 5"/>
          <p:cNvCxnSpPr/>
          <p:nvPr/>
        </p:nvCxnSpPr>
        <p:spPr>
          <a:xfrm flipV="1">
            <a:off x="3809880" y="761760"/>
            <a:ext cx="534240" cy="41184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cxnSp>
        <p:nvCxnSpPr>
          <p:cNvPr id="55" name="AutoShape 6"/>
          <p:cNvCxnSpPr/>
          <p:nvPr/>
        </p:nvCxnSpPr>
        <p:spPr>
          <a:xfrm>
            <a:off x="3809880" y="762120"/>
            <a:ext cx="534240" cy="381600"/>
          </a:xfrm>
          <a:prstGeom prst="straightConnector1">
            <a:avLst/>
          </a:prstGeom>
          <a:ln w="31680">
            <a:solidFill>
              <a:srgbClr val="ff0000"/>
            </a:solidFill>
            <a:miter/>
          </a:ln>
        </p:spPr>
      </p:cxnSp>
      <p:sp>
        <p:nvSpPr>
          <p:cNvPr id="56" name="Rectangle 8"/>
          <p:cNvSpPr/>
          <p:nvPr/>
        </p:nvSpPr>
        <p:spPr>
          <a:xfrm>
            <a:off x="152280" y="1676520"/>
            <a:ext cx="883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ВИЧ-ИНФЕКЦИЯ  = заболев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заканчивающиес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ПИДом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57" name="AutoShape 12"/>
          <p:cNvCxnSpPr>
            <a:stCxn id="56" idx="1"/>
            <a:endCxn id="56" idx="1"/>
          </p:cNvCxnSpPr>
          <p:nvPr/>
        </p:nvCxnSpPr>
        <p:spPr>
          <a:xfrm>
            <a:off x="151920" y="3551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 rot="5400000">
            <a:off x="-990720" y="1828440"/>
            <a:ext cx="5029200" cy="213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74320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743200" y="1908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обретен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971800" y="3809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мун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фи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WordArt 11"/>
          <p:cNvSpPr txBox="1"/>
          <p:nvPr/>
        </p:nvSpPr>
        <p:spPr>
          <a:xfrm rot="5400000">
            <a:off x="5104800" y="1828440"/>
            <a:ext cx="5029200" cy="213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IDS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ВИЧ ИНФЕКЦИЯ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заболевание вызванное вирусом иммунодефицита челове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арактеризующееся специфическим </a:t>
            </a:r>
            <a:r>
              <a:rPr b="1" i="1" lang="en-US" sz="3200" spc="-1" strike="noStrike" u="sng">
                <a:solidFill>
                  <a:srgbClr val="ffcc00"/>
                </a:solidFill>
                <a:uFillTx/>
                <a:latin typeface="Tahoma"/>
              </a:rPr>
              <a:t>поражением иммунной систем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приводящим к ее медленному и неуклонному разрушению до формирования синдрома приобретенного иммунодефицита (СПИД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3-05T18:17:36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